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ED5-EC11-4125-8666-9717EB31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546-AA73-4AE9-A14B-6B675FCE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8F5-94CA-4920-8035-E05E31D0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7CE-156A-4185-9595-FBA42466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347-9449-497B-95A9-2CE9C551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460-F193-488F-B3E4-09CB038C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753-1270-4980-86EC-E64E4DD1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DDF-7BDF-4EA3-9F68-5C13A0A9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F31-92C0-4AA0-B3DB-96CC221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4C6-85A2-4143-9C2B-6DE60921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06B-E254-45A2-A7F8-64F20C30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05B-726D-40C7-A582-BCF030C8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FC03-E54A-44EA-850C-3B0D667F0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sg/imgres?imgurl=http://www.irvmusic.com/music%2520note5.jpg&amp;imgrefurl=http://www.irvmusic.com/&amp;usg=__hRLK7KywcvhCEsQr1OuXAdTkFYE=&amp;h=500&amp;w=483&amp;sz=51&amp;hl=en&amp;start=1&amp;itbs=1&amp;tbnid=kcHB2XPgnrS8TM:&amp;tbnh=130&amp;tbnw=126&amp;prev=/images%3Fq%3Dmusic%2Bpictures%26hl%3Den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sg/imgres?imgurl=http://www.kidcartoonists.com/wp-content/uploads/2008/01/shevlin10.jpg&amp;imgrefurl=http://www.kidcartoonists.com/index.php/2008/01/28/by-shevlin-age-10/&amp;usg=__9xlWB--LWVi4RWV2U5-Np4Ms7HI=&amp;h=420&amp;w=500&amp;sz=43&amp;hl=en&amp;start=4&amp;itbs=1&amp;tbnid=2FGglsviMkSAYM:&amp;tbnh=109&amp;tbnw=130&amp;prev=/images%3Fq%3Dcartoon%2Brunning%26hl%3Den%26sa%3DX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MY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What kinds of music will help us feel less tired when run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00600"/>
            <a:ext cx="1199880" cy="123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60199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formal Roman"/>
              </a:rPr>
              <a:t>irvmusic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380880"/>
            <a:ext cx="1238040" cy="1038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05720" y="14479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Informal Roman"/>
              </a:rPr>
              <a:t>kidcartoonist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dley Hand ITC"/>
              </a:rPr>
              <a:t>Running with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143000"/>
            <a:ext cx="815328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radley Hand ITC"/>
              </a:rPr>
              <a:t>To 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music helps people concentrate and feel calm, when combining this with running, it helps people get away from reality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music helps give you a last push to your real limit and make you persevere till the run without walking or stopping</a:t>
            </a:r>
            <a:r>
              <a:rPr b="0" lang="en-US" sz="1600" spc="-1" strike="noStrike">
                <a:solidFill>
                  <a:srgbClr val="000000"/>
                </a:solidFill>
                <a:latin typeface="Bradley Hand IT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6483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radley Hand ITC"/>
              </a:rPr>
              <a:t>Not to li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some people feel that listening to music when running destroys the purpose of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people want to enjoy the nature when running instead of getting away from 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radley Hand ITC"/>
              </a:rPr>
              <a:t>pushing yourself without music really needs more determination than having extra help, in this case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1028880" cy="112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6520" y="3505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Informal Roman"/>
              </a:rPr>
              <a:t>mahalo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How am I going to carry out this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2971800"/>
            <a:ext cx="79246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I would have a female candidate of age 35-45 to run a distance 3.6 kilometers while listening to different choices of music, they are Christian songs, slow, fast, pop and classical. I will also have no music as a choice of ‘music’ for a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Here is my tiredness 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radley Hand ITC"/>
              </a:rPr>
              <a:t>1(not at all tired)   2(not very tired)   3(just tired)  4(dog-tired)   5(extremely tired, going to d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radley Hand ITC"/>
              </a:rPr>
              <a:t>Then I would, record the candidate’s feeling in a 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1337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adley Hand ITC"/>
              </a:rPr>
              <a:t>My hypothesis: Running with music helps people feel less t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5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304920"/>
          <a:ext cx="8381880" cy="63241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397160"/>
                <a:gridCol w="1396800"/>
                <a:gridCol w="1397160"/>
              </a:tblGrid>
              <a:tr h="324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MY EXPERIMENT RESUL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Type of Mus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Tiredn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tart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End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No 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hristian so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F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P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No 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hristian so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F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002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0" y="845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274680"/>
          <a:ext cx="8229600" cy="5851080"/>
        </p:xfrm>
        <a:graphic>
          <a:graphicData uri="http://schemas.openxmlformats.org/drawingml/2006/table">
            <a:tbl>
              <a:tblPr/>
              <a:tblGrid>
                <a:gridCol w="1371240"/>
                <a:gridCol w="1371960"/>
                <a:gridCol w="1371600"/>
                <a:gridCol w="1371240"/>
                <a:gridCol w="1371960"/>
                <a:gridCol w="1371600"/>
              </a:tblGrid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P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No 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hristian son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F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Slo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Po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Bradley Hand ITC"/>
                          <a:ea typeface="SimSun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2:43:07Z</dcterms:created>
  <dc:creator>Josh</dc:creator>
  <dc:description/>
  <dc:language>en-US</dc:language>
  <cp:lastModifiedBy>Josh</cp:lastModifiedBy>
  <dcterms:modified xsi:type="dcterms:W3CDTF">2010-04-11T13:54:08Z</dcterms:modified>
  <cp:revision>7</cp:revision>
  <dc:subject/>
  <dc:title>MY RESEARCH QUESTION</dc:title>
</cp:coreProperties>
</file>